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 rot="21492000">
            <a:off x="469440" y="5689440"/>
            <a:ext cx="10160280" cy="254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622440" y="2349360"/>
            <a:ext cx="11760120" cy="41911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269720" y="49784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Click to edit the outline text format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1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con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2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Thir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3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our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4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if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5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ix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6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ven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269720" y="259092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Click to edit the title text format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416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70080" y="2654280"/>
            <a:ext cx="487656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Click to edit the title text format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70080" y="4991040"/>
            <a:ext cx="4876560" cy="180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Click to edit the outline text format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1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con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2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Thir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3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our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4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if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5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ix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6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ven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7" name="" descr=""/>
          <p:cNvPicPr/>
          <p:nvPr/>
        </p:nvPicPr>
        <p:blipFill>
          <a:blip r:embed="rId7"/>
          <a:stretch/>
        </p:blipFill>
        <p:spPr>
          <a:xfrm>
            <a:off x="622440" y="2781360"/>
            <a:ext cx="11760120" cy="41911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3212640"/>
            <a:ext cx="10464840" cy="344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Click to edit the title text format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0" name="" descr=""/>
          <p:cNvPicPr/>
          <p:nvPr/>
        </p:nvPicPr>
        <p:blipFill>
          <a:blip r:embed="rId7"/>
          <a:stretch/>
        </p:blipFill>
        <p:spPr>
          <a:xfrm rot="21492000">
            <a:off x="469440" y="5689440"/>
            <a:ext cx="10160280" cy="25401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8"/>
          <a:stretch/>
        </p:blipFill>
        <p:spPr>
          <a:xfrm>
            <a:off x="622440" y="2349360"/>
            <a:ext cx="11760120" cy="41911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9"/>
          <a:stretch/>
        </p:blipFill>
        <p:spPr>
          <a:xfrm>
            <a:off x="1384200" y="927000"/>
            <a:ext cx="6451560" cy="19940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1269720" y="49784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Click to edit the outline text format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1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con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2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Thir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3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our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4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if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5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ix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6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ven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1269720" y="259092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Click to edit the title text format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1269720" y="1510920"/>
            <a:ext cx="1046484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35748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4800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83160" indent="-35712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1868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6144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552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94320" indent="-36108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338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270080" y="29714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0456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55224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83808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12392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781320" y="297144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0456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55224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83808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12392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6144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552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94320" indent="-36108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338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1270080" y="29714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0456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55224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83808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12392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6222960"/>
            <a:ext cx="1046484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Click to edit the title text format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69720" y="7695720"/>
            <a:ext cx="104648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Click to edit the outline text format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1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con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2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Thir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3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our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4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if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5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ix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6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ven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371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 rot="21498000">
            <a:off x="1635120" y="6837480"/>
            <a:ext cx="8381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259092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NREM: Stage N2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69720" y="49784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cond stage of sleep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haracteristics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Often thought of as “light sleep”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Easily able to be awakened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45% – 60% of total duration of sleep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Awareness of external environment is almost nul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Brain waves are low in frequency; high in amplitude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524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haracteristics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687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“</a:t>
            </a: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Preparing stage” for Stage N3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Heart rate and muscular activity decreases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Occurrences such as: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78732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leep spindles: 0.5 - 1.5-second-lasting bursts of brain activity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78732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K-complexes: 0.5-second-lasting high voltage peaks, usually followed by sleep spindles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